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8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.jpeg" ContentType="image/jpeg"/>
  <Override PartName="/ppt/media/image11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10.gif" ContentType="image/gif"/>
  <Override PartName="/ppt/media/image8.wmf" ContentType="image/x-wmf"/>
  <Override PartName="/ppt/media/image33.jpeg" ContentType="image/jpeg"/>
  <Override PartName="/ppt/media/image6.wmf" ContentType="image/x-wmf"/>
  <Override PartName="/ppt/media/image34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C22C-FA47-4FB1-8E89-D9933B4804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9853-BB68-4D9C-BC28-FAFFEE598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ECA-6524-4D5B-A07A-E1DDFA49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65D-08A1-4231-9B77-259E8C9E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6B954-5D23-4B43-AB91-C5099362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E19F1-5E39-4350-8454-72A71BBD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8C55C-E25B-4D1C-BFC4-9DE672D0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2A015-EF05-43B7-9ADE-7A526D3B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3534B-EC1F-4106-9B23-D826C5F9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A053B-4452-473D-8636-5F68D812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E9299-8F0A-4CFC-9160-6A7DBF2F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5F66B-D76B-4AC5-948E-CA6A91AD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F875A-04B2-43A3-85E1-54E0E087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0B49C-2DA8-4013-BE75-12685BDE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456-5933-4613-92D0-5BA77221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C4961-0F48-4E9B-8883-C470C2DC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2226C-D0BB-48AF-A8C2-7CD06BCC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F7590-C81D-4F2C-844A-63961311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C7067-08F3-474E-9A28-E032A5A8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6A93C-AC6E-4F90-9EF1-18981A31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F4703-C9D9-4D65-9AA6-4AC97555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CA9FB-C5BB-445F-90A5-DC3A1EA6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1B550-B987-482A-9330-E8227F6C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6FAA4-5E0E-4093-B2AD-2B17DB2A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70113-BE92-404C-9FE2-D69E9D37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90B-E616-408E-B6A8-C335F4AE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226EE-3B0C-4B7F-A583-0D8CDB3C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C473D-C824-46C8-AB45-5AAB91A6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CAB4F-7EE8-4D41-98C7-1E7A0053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2AAEE-887B-4784-AA07-AD373D92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9184B-1A3D-4B29-B0C4-2D32F733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55AA9-2AB6-4F15-AA94-3A42E20D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F8DCF-32F5-4D7C-9B71-F41C14D6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897AC-48E3-4A61-9452-F9083A54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4000E-8326-4F66-96B2-6897AC1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E61BE-C250-46B6-B55A-C90717DB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14BB-F019-4B00-B8E7-B9A18304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A387E-568E-48BA-BAEA-C00F7B60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905D7-5228-4249-A692-6E837095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E20A9-47E7-4D62-98C1-921607BB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AB68E-E09C-4897-8E8B-863FC507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F89A5-52FA-4C15-9993-8A33304B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80B30-BC0F-4CBC-9508-86A792A1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AE598-64A8-46A2-BD37-E526A871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D6FE5-2C58-46F4-B417-71A76F08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8CE5B-62B8-4A46-8CFE-218A8A27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19A86-FF5A-43D3-B90E-9ED3C191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06EB-DC87-4018-BAC1-6D126564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66547-95AB-4C69-AA0E-3000C0E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0FD1A-5650-4FD4-9D67-2487023B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C8B3F-D07F-4FB4-9882-02675F4B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9FF23-E74E-4D43-927E-A0A7F920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EEF84-7490-4BB6-A6BB-65729B83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0835-F386-41B5-B619-C89CEED2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E8CD-60C2-4195-A9E7-F6DB2CF7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1690-E136-4874-8F78-04CAE8A7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4E89-96D0-48F0-9721-7F16633D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401C-620E-4EB4-A3B6-A913B07E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CCB-2FC1-4C39-B0B4-B30F4021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81BA-129B-44A8-9564-94E84893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BB04-337A-4782-9A61-E65CBA44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11E2-6E10-43A5-8982-7C1D0075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876E-A5CF-462D-8AD0-1272DA36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ED9A-4C28-4D72-9F8F-F493A8F5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FB51-3A50-4BE7-822B-E48005AE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DB76-DBA4-4587-9064-AC8E46D1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2D34-DBA6-4B38-B5A7-1CA3A96C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9273-96B7-430A-A0E5-7FB405AA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D44BB-F5FC-439F-88B2-80C08CC9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2C1-2EE7-444D-B909-AADC2C4A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5FAA-479B-456F-8682-B774985A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8DAF-0541-40AF-A9E8-A2CE90E8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EFE6-B177-4EF1-89A8-1FBAF5D2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21444-0C7D-41BB-9D8F-6FAB6007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3FB2-EC0B-4183-9AA4-933470BD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9BF3-1BFB-4BBD-B7F4-931D0741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1048-4B31-42AE-9D14-2411E050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5B52-8B9A-4400-9B9E-23D3CACF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7228-AF06-429A-9DC6-CA7590DA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1E4E3-9A28-43C3-BDFC-432CDC8A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22E-F007-498D-B435-12AD76D8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1F22-9AA4-4CBC-9BE0-4355A41A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4705-70F6-4A0D-B1AC-172AF906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1B528-442B-4025-80AE-45BAC985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C68F-D4AD-4A71-AE62-B62FF8D6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BCDDD-F2BF-4B6E-B7C1-33CC91B0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44688-DFF0-44AC-8F35-112114EB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78F4-5E46-4FBF-A5F3-93BADD0F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EEBF1-CC23-4AE7-947D-1C054522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87B80-3927-471D-8205-ADBE9FF1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D5C6-4E8C-4697-B265-E85A87CD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53A-7E14-49C5-9D0A-4485E8B0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7C60A-32D8-465D-AC0E-913F068C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54084-D49E-4B3C-ADBF-280920F4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41DE8-4FD0-4C55-B19A-E8DEF736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5BA8E-ABF5-4023-B67F-2ED9F50C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3313B-3D39-4218-9C21-6FAB848D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0D8C1-02F4-43ED-8240-B64D2A79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1B71F-F196-4F1F-B337-C9B01B34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5E9B0-8FD3-49CE-B4D4-5331A494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2F651-5E8E-4A26-8183-EC23A42D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C5F16-2EA8-4281-9250-5CF936C1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7FD-6981-424E-A913-0AC02810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A3E2D-AC8E-49E3-885F-E34F21C0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B0D7-28BC-44F4-B292-72A43EC6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E7F86-356E-4BC3-8BB7-1235674A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51AF3-7E1A-4ABA-A4A9-D4688B4E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8E650-56FD-4073-956E-39E5D6F9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D8370-53D5-46EF-A363-3E5BE84B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43C70-59D9-48C9-9AA4-E1911CB6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B930E-BA5A-459F-97A1-9ADE55AF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1ED45-A9AF-46AE-A100-2E8F892F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C784E-9D9E-43C5-A881-9F78E84C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9D4-1526-4F73-8FDB-5E091E1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DD240-CE81-484C-8790-D4237DD2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50B5D-F210-43A1-869A-25A1EA53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AFF3E-6C4E-4C17-A84F-47F0C1A0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412E7-AC0A-47F9-8FE0-C3D88194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CF208-CF59-4B9E-9A87-F0EBAA9B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568E4-9162-4452-954A-534F3DAF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977F8-D499-49DC-8BD7-29AB6778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02880-2404-4152-8DCC-AFB4F38B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406BF-7695-4807-98C7-0D16A983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0668-60E4-4042-8F7E-ED9F62B9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499-2CD3-4BEB-8694-EDED97A2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5E577-CBEC-43BD-8BBE-A477C10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9B0D5-8626-4F8C-A3EC-AB3CF66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4A8B9-16D0-461F-A637-1E79930D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BCD36-0442-4605-8736-2D486BC5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56A9A-87C3-436F-8588-8A05173E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8D4BD-CF3C-4CDB-9B13-4E78AADA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9490E-0B00-4E15-8328-ABE52F74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74AFA-6E85-4012-A35A-057F812B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59FD6-5805-4426-9B7B-579E0E4B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8EA05-3DFB-4881-B51D-7B138CE3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BA0-8D78-4A89-AFAE-1BBADA85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09882-3DAE-4C0E-9DD6-4BCEAFA4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B7002-3853-4709-BF7F-00598FE5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BC3BE-A22F-426E-970E-97A2A87C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DFF7F-543F-443B-AB00-83F128BE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302CF-E29A-4E5E-9BC3-1594C623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55349-6C44-44A9-9707-4966734B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B6CFD-5CD0-462B-9D3A-5A753C2E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8D249-013E-46AA-B021-A0AD839C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EFB93-927D-4ECE-B513-07C38C6E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8FEDA-36EF-4F09-A6D6-EE0A9AE2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4DBB-6C62-433D-ACCD-4FA9819F9C4B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A286-0162-46C7-BC05-1D8C5A78C587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6B7D-1FA1-4D0B-AFE8-FD5D5BF0B64C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99D5-2408-4F67-8A95-02F715B94102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4D6A-D6E6-4022-9A24-60078E23C1FE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B65C-8149-4380-86A3-A67031BD4D1D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53C9-281F-4EEC-9DF1-8D92F3882AE8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3CC2-3EF8-4BF5-984B-EDEC4BD6A27F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9645-EC6C-45D5-AB23-C9CB2BC94F5F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2C80-CC9B-4749-B1C0-70CE31108575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D4D8-7414-4BFA-B6B9-A99626C33D65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9ACA-ED79-41CB-A1AC-1F2FDB3DD1D8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7358040" cy="207180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7bd16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44c1b"/>
                </a:solidFill>
                <a:latin typeface="Trebuchet MS"/>
              </a:rPr>
              <a:t>БИОСФЕРА</a:t>
            </a:r>
            <a:endParaRPr b="0" lang="en-US" sz="9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214200" y="4572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– </a:t>
            </a: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оболочка     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D:\КАРТИНКИ\Коллекция картинок2\AG00142_.GIF"/>
          <p:cNvPicPr/>
          <p:nvPr/>
        </p:nvPicPr>
        <p:blipFill>
          <a:blip r:embed="rId2"/>
          <a:stretch/>
        </p:blipFill>
        <p:spPr>
          <a:xfrm>
            <a:off x="7358040" y="642960"/>
            <a:ext cx="2048040" cy="2558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D:\КАРТИНКИ\Коллекция картинок1\j0423433.wmf"/>
          <p:cNvPicPr/>
          <p:nvPr/>
        </p:nvPicPr>
        <p:blipFill>
          <a:blip r:embed="rId3"/>
          <a:stretch/>
        </p:blipFill>
        <p:spPr>
          <a:xfrm>
            <a:off x="3214800" y="428760"/>
            <a:ext cx="328608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D:\КАРТИНКИ\Коллекция картинок1\j0426420.wmf"/>
          <p:cNvPicPr/>
          <p:nvPr/>
        </p:nvPicPr>
        <p:blipFill>
          <a:blip r:embed="rId4"/>
          <a:stretch/>
        </p:blipFill>
        <p:spPr>
          <a:xfrm>
            <a:off x="214200" y="28584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D:\КАРТИНКИ\Коллекция картинок1\j0428143.wmf"/>
          <p:cNvPicPr/>
          <p:nvPr/>
        </p:nvPicPr>
        <p:blipFill>
          <a:blip r:embed="rId5"/>
          <a:stretch/>
        </p:blipFill>
        <p:spPr>
          <a:xfrm>
            <a:off x="8286840" y="4714920"/>
            <a:ext cx="733320" cy="181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D:\КАРТИНКИ\Коллекция картинок3\j0436378.png"/>
          <p:cNvPicPr/>
          <p:nvPr/>
        </p:nvPicPr>
        <p:blipFill>
          <a:blip r:embed="rId6"/>
          <a:stretch/>
        </p:blipFill>
        <p:spPr>
          <a:xfrm>
            <a:off x="3000240" y="57862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D:\КАРТИНКИ\Коллекция картинок3\j0318096.gif"/>
          <p:cNvPicPr/>
          <p:nvPr/>
        </p:nvPicPr>
        <p:blipFill>
          <a:blip r:embed="rId7"/>
          <a:stretch/>
        </p:blipFill>
        <p:spPr>
          <a:xfrm>
            <a:off x="4286160" y="3706920"/>
            <a:ext cx="1928880" cy="293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D:\КАРТИНКИ\Коллекция картинок1\j0185571.gif"/>
          <p:cNvPicPr/>
          <p:nvPr/>
        </p:nvPicPr>
        <p:blipFill>
          <a:blip r:embed="rId8"/>
          <a:stretch/>
        </p:blipFill>
        <p:spPr>
          <a:xfrm>
            <a:off x="816120" y="4998960"/>
            <a:ext cx="2041560" cy="1716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D:\КАРТИНКИ\Коллекция картинок1\j0236376.gif"/>
          <p:cNvPicPr/>
          <p:nvPr/>
        </p:nvPicPr>
        <p:blipFill>
          <a:blip r:embed="rId9"/>
          <a:stretch/>
        </p:blipFill>
        <p:spPr>
          <a:xfrm>
            <a:off x="6215040" y="5572080"/>
            <a:ext cx="1785960" cy="996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D:\КАРТИНКИ\Коллекция картинок1\j0236359.gif"/>
          <p:cNvPicPr/>
          <p:nvPr/>
        </p:nvPicPr>
        <p:blipFill>
          <a:blip r:embed="rId10"/>
          <a:stretch/>
        </p:blipFill>
        <p:spPr>
          <a:xfrm>
            <a:off x="214200" y="3006720"/>
            <a:ext cx="1143000" cy="196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D:\КАРТИНКИ\Коллекция картинок1\j0433319.jpg"/>
          <p:cNvPicPr/>
          <p:nvPr/>
        </p:nvPicPr>
        <p:blipFill>
          <a:blip r:embed="rId11"/>
          <a:stretch/>
        </p:blipFill>
        <p:spPr>
          <a:xfrm>
            <a:off x="2214720" y="3786120"/>
            <a:ext cx="1500120" cy="99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Заполни таблицу:</a:t>
            </a:r>
            <a:endParaRPr b="0" lang="en-US" sz="54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85840" y="1143000"/>
          <a:ext cx="8643960" cy="5500800"/>
        </p:xfrm>
        <a:graphic>
          <a:graphicData uri="http://schemas.openxmlformats.org/drawingml/2006/table">
            <a:tbl>
              <a:tblPr/>
              <a:tblGrid>
                <a:gridCol w="2158920"/>
                <a:gridCol w="2419200"/>
                <a:gridCol w="2119320"/>
                <a:gridCol w="1946520"/>
              </a:tblGrid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Царства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Гла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личество ви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Значение 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Бакте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ДЗ: </a:t>
            </a:r>
            <a:r>
              <a:rPr b="1" lang="ru-RU" sz="4400" spc="-1" strike="noStrike">
                <a:solidFill>
                  <a:srgbClr val="056b36"/>
                </a:solidFill>
                <a:latin typeface="Lucida Sans Unicode"/>
                <a:ea typeface="Lucida Sans Unicode"/>
              </a:rPr>
              <a:t>§29-30,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решить тест</a:t>
            </a:r>
            <a:endParaRPr b="0" lang="en-US" sz="44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400" y="999720"/>
            <a:ext cx="8715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пособностью создавать органическое вещество из    неорганического обладают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микроорганизмы ;                   в)  грибы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животные ;                                г)  растения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ибольшее видовое разнообразие наблюдается в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е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животных ;                              в)  грибов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бактерий ;                               г)  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рибы занимают промежуточное положение между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бактер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растен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растениями и бактерия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нет правильного ответа. 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8f48"/>
                </a:solidFill>
                <a:latin typeface="Trebuchet MS"/>
              </a:rPr>
              <a:t>Царства живой природы</a:t>
            </a:r>
            <a:endParaRPr b="0" lang="en-US" sz="48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514" name="Схема 2" descr=""/>
          <p:cNvPicPr/>
          <p:nvPr/>
        </p:nvPicPr>
        <p:blipFill>
          <a:blip r:embed="rId1"/>
          <a:stretch/>
        </p:blipFill>
        <p:spPr>
          <a:xfrm>
            <a:off x="847800" y="1311120"/>
            <a:ext cx="7954920" cy="51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Бактерии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00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Бактерии – первые организмы, появившиеся на Земле (1 млрд. лет назад). Обитают повсеместно. Тело бактерий состоит из одной клетки. Способствуют разложению животных и превращению органических остатков в питательные вещества для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17" name="Picture 2" descr="C:\Documents and Settings\Admin\Рабочий стол\b5g0445i.bmp"/>
          <p:cNvPicPr/>
          <p:nvPr/>
        </p:nvPicPr>
        <p:blipFill>
          <a:blip r:embed="rId2"/>
          <a:stretch/>
        </p:blipFill>
        <p:spPr>
          <a:xfrm>
            <a:off x="4714920" y="1571760"/>
            <a:ext cx="4114800" cy="30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Picture 3" descr="C:\Documents and Settings\Admin\Рабочий стол\b5g0447i.bmp"/>
          <p:cNvPicPr/>
          <p:nvPr/>
        </p:nvPicPr>
        <p:blipFill>
          <a:blip r:embed="rId3"/>
          <a:stretch/>
        </p:blipFill>
        <p:spPr>
          <a:xfrm>
            <a:off x="678672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4" descr="C:\Documents and Settings\Admin\Рабочий стол\b5g0446i.bmp"/>
          <p:cNvPicPr/>
          <p:nvPr/>
        </p:nvPicPr>
        <p:blipFill>
          <a:blip r:embed="rId4"/>
          <a:stretch/>
        </p:blipFill>
        <p:spPr>
          <a:xfrm>
            <a:off x="435780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008400" cy="9288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Растения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Растения составляют флору нашей планеты. Их около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500 тыс. видов. Растения приспособились к разным климатическим условиям.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2" name="Picture 7" descr="C:\Users\Dichok\Desktop\F_splendens.jpg"/>
          <p:cNvPicPr/>
          <p:nvPr/>
        </p:nvPicPr>
        <p:blipFill>
          <a:blip r:embed="rId2"/>
          <a:stretch/>
        </p:blipFill>
        <p:spPr>
          <a:xfrm>
            <a:off x="6143760" y="2643120"/>
            <a:ext cx="271440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500520" y="2785680"/>
            <a:ext cx="2428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4" name="Picture 8" descr="C:\Users\Dichok\Desktop\s8.jpg"/>
          <p:cNvPicPr/>
          <p:nvPr/>
        </p:nvPicPr>
        <p:blipFill>
          <a:blip r:embed="rId3"/>
          <a:stretch/>
        </p:blipFill>
        <p:spPr>
          <a:xfrm>
            <a:off x="3143160" y="2643120"/>
            <a:ext cx="2857680" cy="3729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Dichok\Desktop\0002-009-Tipy-lesov-Rossii.jpg"/>
          <p:cNvPicPr/>
          <p:nvPr/>
        </p:nvPicPr>
        <p:blipFill>
          <a:blip r:embed="rId4"/>
          <a:stretch/>
        </p:blipFill>
        <p:spPr>
          <a:xfrm>
            <a:off x="214200" y="2643120"/>
            <a:ext cx="2714760" cy="371484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357120" y="6357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342900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степе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286680" y="6357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усты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1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28800" y="214200"/>
            <a:ext cx="8037360" cy="642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22296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Животные составляют фауну нашей планеты. Их около 2,5 млн. видов. Питаются готовыми органическими веществами. В отличие от растений способны к активному передвижению. Роль в биосфере невелика: опыление растений, превращение растительных белков в животные в процессе питания, защита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2" name="Picture 4" descr="C:\Users\Dichok\Desktop\stiv-blum-2.jpg"/>
          <p:cNvPicPr/>
          <p:nvPr/>
        </p:nvPicPr>
        <p:blipFill>
          <a:blip r:embed="rId2"/>
          <a:stretch/>
        </p:blipFill>
        <p:spPr>
          <a:xfrm>
            <a:off x="142920" y="385776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C:\Users\Dichok\Desktop\1251815791_anim161.jpg"/>
          <p:cNvPicPr/>
          <p:nvPr/>
        </p:nvPicPr>
        <p:blipFill>
          <a:blip r:embed="rId3"/>
          <a:stretch/>
        </p:blipFill>
        <p:spPr>
          <a:xfrm>
            <a:off x="2928960" y="3857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Users\Dichok\Desktop\0_14f6b_31fbb99f_L.jpeg"/>
          <p:cNvPicPr/>
          <p:nvPr/>
        </p:nvPicPr>
        <p:blipFill>
          <a:blip r:embed="rId4"/>
          <a:stretch/>
        </p:blipFill>
        <p:spPr>
          <a:xfrm>
            <a:off x="5929200" y="385776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35788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Грибы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Грибы – особая группа живых организмов, занимающая промежуточное положение между растениями, и животными. Насчитывается более 100 тыс. видов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едут неподвижный образ жизни. Питаются готовыми органическими веществами, которые получают в процессе разложения остатков животных и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7" name="Picture 7" descr="C:\Users\Dichok\Desktop\79916948_3453311_2.jpg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Dichok\Desktop\012.jpg"/>
          <p:cNvPicPr/>
          <p:nvPr/>
        </p:nvPicPr>
        <p:blipFill>
          <a:blip r:embed="rId3"/>
          <a:stretch/>
        </p:blipFill>
        <p:spPr>
          <a:xfrm>
            <a:off x="300024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C:\Users\Dichok\Desktop\948673df5fa59e56f1eead1aca0732a0.jpg"/>
          <p:cNvPicPr/>
          <p:nvPr/>
        </p:nvPicPr>
        <p:blipFill>
          <a:blip r:embed="rId4"/>
          <a:stretch/>
        </p:blipFill>
        <p:spPr>
          <a:xfrm>
            <a:off x="6000840" y="3500280"/>
            <a:ext cx="31431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4" descr="Живые организмы и ГО"/>
          <p:cNvPicPr/>
          <p:nvPr/>
        </p:nvPicPr>
        <p:blipFill>
          <a:blip r:embed="rId1"/>
          <a:stretch/>
        </p:blipFill>
        <p:spPr>
          <a:xfrm>
            <a:off x="285840" y="714240"/>
            <a:ext cx="8715240" cy="60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1" name="TextBox 2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Взаимосвяз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6213"/>
                </a:solidFill>
                <a:latin typeface="Trebuchet MS"/>
              </a:rPr>
              <a:t>         </a:t>
            </a:r>
            <a:r>
              <a:rPr b="1" lang="ru-RU" sz="4000" spc="-1" strike="noStrike">
                <a:solidFill>
                  <a:srgbClr val="476213"/>
                </a:solidFill>
                <a:latin typeface="Trebuchet MS"/>
              </a:rPr>
              <a:t>Повторим главное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85520" y="571680"/>
            <a:ext cx="79009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Совокупность всех живых организмов составляет особую живую оболочку планеты – биосферу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собенно важную роль играют растения. Только они способны, используя солнечную энергию, превращать неорганические вещества в органические. Органические вещества являются основой жизни всех остальных обитателей планеты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44" name="Picture 2" descr="C:\Users\Dichok\Desktop\0_423_a2751233_XL.jpg"/>
          <p:cNvPicPr/>
          <p:nvPr/>
        </p:nvPicPr>
        <p:blipFill>
          <a:blip r:embed="rId1"/>
          <a:stretch/>
        </p:blipFill>
        <p:spPr>
          <a:xfrm>
            <a:off x="2643120" y="371484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\Users\Dichok\Desktop\0_1f943_895677c0_L.jpg"/>
          <p:cNvPicPr/>
          <p:nvPr/>
        </p:nvPicPr>
        <p:blipFill>
          <a:blip r:embed="rId2"/>
          <a:stretch/>
        </p:blipFill>
        <p:spPr>
          <a:xfrm>
            <a:off x="214200" y="3714840"/>
            <a:ext cx="2357640" cy="3000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Dichok\Desktop\cranberry.jpg"/>
          <p:cNvPicPr/>
          <p:nvPr/>
        </p:nvPicPr>
        <p:blipFill>
          <a:blip r:embed="rId3"/>
          <a:stretch/>
        </p:blipFill>
        <p:spPr>
          <a:xfrm>
            <a:off x="6000840" y="371484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2:14Z</dcterms:created>
  <dc:creator>starostina</dc:creator>
  <dc:description/>
  <cp:keywords/>
  <dc:language>en-US</dc:language>
  <cp:lastModifiedBy>Admin</cp:lastModifiedBy>
  <dcterms:modified xsi:type="dcterms:W3CDTF">2020-04-14T22:47:35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